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86F-B67D-42EE-9966-11196860D3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2CFE-23AB-4A95-A562-31B2795C20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E26-5FAA-46AB-A3C3-70CF58CC13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8A8-9D6A-49E2-AD31-C8B4B7AB90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F2EB-BEF4-4412-B999-EDE14D0A50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F104-69C5-48E8-AFC2-D70AE97DAD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9BDC-82CA-4C63-8DB3-B26BE43566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DA97-B3BD-49C8-8DDF-8BC8A7C491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B42D-6310-4733-A1F7-2FED73E4F9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2FD-B23D-4124-9635-373A84A39B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DD1-177F-49B3-94B0-CB2AC6892E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ACA8-7DEF-4DA9-84F2-1492EEA182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7DC-EF52-47FC-99FE-324272775F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D49-5F23-4CD4-99D8-57BC73FF07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2211-E267-4DD6-9535-2E3F068614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2E5-DA72-4F0A-945E-69DCCBE3C88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DEA2-B6DB-4EEA-9DDA-D365441797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11A6-93CC-492A-B022-474F4B9B65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7B76-985E-4DFD-945F-39C1A906B5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0B2-DF20-4B8D-A5DF-F80C2158E3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332F-E534-4F78-9E5D-24156FDE45D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4A3-5703-4014-ACB8-5D8F0B96E7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BD8-8807-4267-B1BF-17B4F07DB0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F8B-DDEA-4836-A08C-30FF6891C7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E63F-1FD7-4332-85BA-74EF9E702D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0DF-80F8-4245-B297-4C44C85DE5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2CCB-19E7-46B9-B618-B49EEE2F002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565-9748-4916-A53D-20A209A8D2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DE80-F154-4F8C-9FAD-614A068C9F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284-10AC-4995-99A8-01BE96EBDF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6AB2-919F-4C70-9682-352C359D1C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87A-442E-46C7-A4EE-8877873FCE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6B58-0AC9-41C3-B4FB-2B243A5D96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6C33-5E30-499F-AA68-AA4530D5DC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3D0-692C-4567-B37F-26D4768DFA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625-2F14-4CDE-ABB6-07CB81458F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7B52-3E79-4BBC-9E7C-36D30C5139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F03-6FB8-46FA-BDD2-78EE904D3D4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E242-7761-4FD7-BCDA-0333E76CC3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C87-A2E2-4729-B58F-D96D7649AE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9EF-EE20-41BB-97B8-1EBDB1F52D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2373-6FA4-4826-AB07-3B5521B90F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F406-6364-4C61-A3AF-AD1F1439BF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4FA-1FB0-4D0B-BD2E-FF5A1B81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422-ADE7-4D2A-B872-81BB94B1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4F9-6E9A-4A1A-8FF6-1AB5946B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8EF-9424-4A36-B7FC-12CF0C23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473-0CE1-4341-90DD-F59D1983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5EB-CDAC-4B05-9370-9C844EB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D43-AC68-4A71-B40F-90AE76F2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82F-EA30-4D69-9D03-18D2C71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67B-3EEE-4266-9A7A-0D327D9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DCA-3DF4-4561-A904-1B53B2F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B2C-E613-423C-983B-042D28D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E26-6C0B-4125-B89C-736B025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D077-E937-4C8E-A48F-5E7589E38252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请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qǐngwè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말씀 좀 묻겠습니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로부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ǎ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ú t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그다지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않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è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글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ǒ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왼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ǎ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돌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른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地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ti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지하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医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yu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병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깝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40644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东大门市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404280" y="4997160"/>
            <a:ext cx="62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ōngdàmén Shìchǎ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동대문 시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ò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24160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교통수단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타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方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fāngbià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편리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ūy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필요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길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íj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시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左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uǒyò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량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류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北京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5752440"/>
            <a:ext cx="62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Běijī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82840"/>
            <a:ext cx="638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Arial"/>
              </a:rPr>
              <a:t>베이징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十字路口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shízìlùkǒu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사거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592200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ōnggòngqìch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버스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火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uǒ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ēij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비행기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항공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ìxíngch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전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맞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 rot="10800000">
            <a:off x="333000" y="66452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자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车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chēzhà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정류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ěnm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떻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hūzūchē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택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번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500" spc="-1" strike="noStrike">
                <a:solidFill>
                  <a:srgbClr val="000000"/>
                </a:solidFill>
                <a:latin typeface="Arial"/>
              </a:rPr>
              <a:t>버스 노선</a:t>
            </a:r>
            <a:r>
              <a:rPr b="0" lang="en-US" sz="7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z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行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íngré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행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zh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곧바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쪽으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iá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5:15:58Z</dcterms:created>
  <dc:creator>System</dc:creator>
  <dc:description/>
  <dc:language>en-US</dc:language>
  <cp:lastModifiedBy>System</cp:lastModifiedBy>
  <dcterms:modified xsi:type="dcterms:W3CDTF">2014-01-24T06:10:13Z</dcterms:modified>
  <cp:revision>6</cp:revision>
  <dc:subject/>
  <dc:title>슬라이드 1</dc:title>
</cp:coreProperties>
</file>